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32B-DD30-40A9-A8C1-46E5637A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E6F-37A4-4A5A-8BF8-9E3C44DE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25B-ABDA-4A9E-86CD-2F6E9526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612-8F0B-4FF3-909F-47D8C097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7ACE-6F48-4C94-8B2F-2762FD1D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612-D26F-419F-BEFA-821F9F67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BCE2-0FFC-4932-8012-F26AAFD4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4844-9B4E-4F5D-AE4B-B8B76D65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DDC-A0D6-4C59-8954-558EEA6E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2381-A117-4E48-98C9-3E23A267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20CA-8281-4CC2-BC77-6FED37C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533-27FE-4F9B-AC79-1C85A1B6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AB54-B040-4760-8623-B5B832C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BBC6-F2E6-42C5-8371-FD976B4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2214-EE32-41B7-B1C4-CDE68C4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327C-F24F-4958-B70A-322DE0F7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896A-B39D-4423-B123-FC46325B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1E9-46CB-4BF6-890B-B9AFA3B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9BD-4E46-448C-B8D3-38607F12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216-B57F-43FE-B4E3-DBA7DB1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346-0644-4782-8263-D66C1D43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047-9FBF-45A9-83BE-A160D96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061-ED05-4F1B-893F-9155D5C7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0EF-E01C-4554-8531-EB018854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AE01-FC88-44AD-B926-3B54B595D344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6AC1-2D28-43D6-9826-2CDD249487EE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Huomioita Kuopion ilmastopoliittisesta ohjelmasta 2009-2020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ikko Pohjola, THL, Ku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iitekeh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myksi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hu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riittisiä kommentte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iitekehy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U:n 2020 20 –tavo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% KHK-vähenn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% uusiutuvia (10% biopolttonesteitä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% kulutusvähenn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Globaali (UNFCCC, IPCC, …) +2 astetta –tavo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ioto:n sopimus -&gt; uusi kv. Ilmastosopim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Bioenergian KHK-päästö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rve polttoainee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ymyksi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kä selittää Mikkelin alhaiset KHK-päästö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opio: n. 1 Mt CO2-ekv, n. 13 t CO2-ekv/hl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keli: n. 0,3 Mt CO2 ekv, n. 6 t CO2-ekv/hl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ä ohjelmalle/ohjelman ansiosta on jo ehtinyt tapahtua sitten vuoden 2009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tä tilanne nyt näyttää tavoitteiden saavuttamisen osal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ko olemassa hyviä esimerkkejä toimenpiteistä, joita on lähdetty toteuttama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äpä niiden aikaansaamista vaikutuksis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kaupungin energiatehokkuussuunnitel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ehu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ohkea tavoit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yvä osoitus yleisestä tahtotilasta Kuopion Kaupungin taholta ilmastoasioihin puuttumis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yös osallisuus URGENCHE-projekt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opiolla aktiivista historiaa ilmastoasio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opion kaupungin energiatehokkuussuunnitel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n jalkauttamisella esimerkkiä ja tekemisen tunt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rsin yksityiskohtaista ja käytännönläh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n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=&gt; Vaikuttavuutta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rittisiä kommentte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voitteiden realistisu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menpiteiden vaikuttavu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kaupungin energiatehokkuusohjelman (suora) vaikutus vain n. 1/100 tavoiteltavasta KHK-päästövähenn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menpiteiden ja tavoitteiden sekasot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ohjelman tavoitteet, yritysten tavoitt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enpiteitä vai tavoitte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enpiteiden väliset suhte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enpiteiden yhteys tavoiteltuihin vaikutuksi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euranta, indikaattor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älittävät tekijä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menpiteiden ei-ilmastovaikutukset ja niiden suhde ilmastovaikutuksiin?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=&gt; ymmärrys tarvittavista toimenpiteistä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=&gt; keinot tarvittavien toimenpiteiden toteuttamiseks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elmä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uunnitelmassa kytkentä suunnitellusta toiminnasta ja todellisesta vaikuttavuudesta kohtaavat huo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joittunut näkem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että voidaan sopia tavoitteista mutta se ei riitä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että ilmastotiede tuottaa ymmärrystä mutta sekään ei riitä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n myös tietoa toiminnan todellisista vaikutuksista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=&gt; Mutta tarvitaan uskottava ja kattava kytkentä suunnitellusta toiminnasta tavoitteisiin, jotta se ohjaisi toimint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Kritiikki sopii lähes kaikkiin olemassa oleviin ilmastosopimuksiin, -ohjelmiin y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0:32:19Z</dcterms:modified>
  <cp:revision>17</cp:revision>
  <dc:subject/>
  <dc:title>Avoin mallitus. Esimerkkinä liikenteen muutosten päästövaikutukset ja sairastuvuus</dc:title>
</cp:coreProperties>
</file>